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F9A-0E98-4730-89F2-5DE3FCFC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CD0-CCF7-47BB-BCF4-31418ABA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028-406C-44A4-8FC9-05A57936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668-9900-4DEE-B6D4-64B48702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BBD8-E38F-4C24-8777-456DF3BB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CB57-D763-4AE6-B3DC-2F6BDBC5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9B4A-809D-4509-91E2-26587835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5F91-D42C-4018-83FC-346CB359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374A-1767-486E-A7B8-00147321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9BD8-3BEC-43BB-8660-D96B3B4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E695-6CFF-4485-85DD-2AE234A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DD1-BFDB-4E5D-AA23-AE2F17F4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2C5-E079-4CEB-B339-CAF8FA0C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9D6B-1A01-4EF6-AE09-B001DD22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19CA-AC8F-44F6-8522-2B196630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DF1C-33FE-4D7E-B30A-15CAC1BF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EB35-A7B6-4E65-88D9-2005B709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EE4-1C14-4955-A953-F343904E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CFC-C012-429E-B7A9-1D9B5FCD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36A-2AFD-43D4-BD63-62FE4673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544-8FE5-412E-A6DD-E3D8C6D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74B-FED3-436F-A0DF-B9350186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FAC-8052-46D3-8833-4EB02121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04B-0089-46CB-B405-F4918D28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FDED-08C5-48ED-A6D4-B9346536B4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C85F-9E3F-451A-8CD2-AB8AA1D1D6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United Kingdom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4, 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uel 11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. 7-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4040" cy="6877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562720" y="1066680"/>
            <a:ext cx="250488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mmonite Terri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le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abesh-Gile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200400" y="1295280"/>
            <a:ext cx="2209680" cy="304812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123720" y="2362320"/>
            <a:ext cx="3048120" cy="6094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666520" y="3047760"/>
            <a:ext cx="3124440" cy="53316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ul Shows Leadershi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Sam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hash, king of the Ammonites, besieges Jabesh-gi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es to its inhabitants the most degrading conditions of peace, v. 1-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pply to their brethren for help, v. 3-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ul hears of their distress; takes a yoke of oxen, cuts them in pieces, and sends them throughout the coasts of Isra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threatens that all who did not come to his banner would have his cattle served in like ma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onsequence of which he is soon at the head of an army of 330,000 men, v. 5-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ul Shows Leadershi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Sam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nds to Jabesh-gilead, and promises help, v. 9-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attacks the Ammonites next morning, and gives them a total overthrow, v. 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ople are greatly encouraged, and they propose to put to death those who are opposed to Saul's government: but he prevents this, v. 12-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 leads the people to Gilgal: they offer sacrifices, and renew the kingdom to Saul, v. 14-1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uel’s Farewell Addres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am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uel, grown old, testifies his integrity before the people, which they confirm, v. 1-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proves them for their ingratitude and disobe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gives a summary of the history of their fathers, v. 6-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uel’s Farewell Addres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Sam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exhorts them to future obedience, and calls for a sign from heaven to confirm his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how them their disobedience: God sends an extraordinary thunder and rain v. 13-1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rns them against idolatry, and exhorts to obedience, and promises to intercede for them, v. 20-2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s up their duty, and concludes with a solemn warning, v. 24-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ul’s Ill-advised Sacrif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Sam 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ul chooses a body of troops, v. 1-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nathan smites a garrison of the Philistines, v. 3-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ilistines gather together an immense host against Israel, v.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raelites are afraid; and some hide themselves in caves, and others flee over Jordan, v. 6-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uel delaying his coming, Saul offers sacrifice, v. 8-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ul’s Ill-advised Sacrif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Sam 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uel comes and reproves him, and Saul excuses himself, v. 10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d’s Authority Mat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TAKE Authority Into Own H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uel shows him that God has rejected him from being captain over his people, v. 13-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uel departs; and Saul and Jonathan, with 600 men abide in Gibeah, v. 15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hilistines send out companies, and devastate the land, v. 17-1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olate state of the Israelite army, having no weapons of defense against their enemies, v. 19-2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1:25:37Z</dcterms:created>
  <dc:creator>Terry W. Benton</dc:creator>
  <dc:description/>
  <dc:language>en-US</dc:language>
  <cp:lastModifiedBy> Don Vines</cp:lastModifiedBy>
  <dcterms:modified xsi:type="dcterms:W3CDTF">2005-03-30T19:46:44Z</dcterms:modified>
  <cp:revision>1</cp:revision>
  <dc:subject/>
  <dc:title>The United Kingdom</dc:title>
</cp:coreProperties>
</file>